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2D6-50A1-420A-B97E-A5720B8B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498-0C54-48A6-AB18-C2A7F848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C7D-2A26-4690-9874-763E81CF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555-5526-41DA-B20A-50FFDB25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1036-0F16-421C-ABF3-45FD1A31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2E85-17C5-4189-82EF-8B747E57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6FCD-764B-45D8-9273-655624C4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FB1A-0C5E-4972-BF3E-21AB5B3D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40E1-F4F5-43CF-A3BE-908E1E34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75A5-F3E1-481C-B594-9ED84421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1D7B-795E-4018-9FB2-38BD19B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BFD-BF4E-4ACC-AFCF-0F7CB787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90CD-145B-4876-AA55-7433815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CB3E-FF95-49E6-ABFF-B29B288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CF5A-2F59-4AFE-A424-EAE88664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444A-36CE-4F4A-8C35-FC99B5D8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FA0F-05DD-4791-9042-9C1A90BA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3FC-47DE-4DC9-A82E-09345100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A1A-0186-4FC2-9A1C-F1347762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1F5-B50A-441C-AB39-6FD1200D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9CD-E1A1-4A45-AEFF-ADE48EF1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C57-99A7-4C30-900B-25225E6B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DFB-62D7-4CCB-BBF4-EA77229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DCD-EE65-4635-8251-17CF9C4A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2621-094B-4153-A39E-7DFBFBA59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1C35-FE41-41BF-BDA8-AFDCF8CFB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TRIUMPHS AND TRAVAILS OF JEFFERSONIAN DEMOCRAC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hapter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Judiciary Act off 1801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it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night judge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Dem.-Rep. view la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.-Rep. repealed the Judiciary 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Justice John Marsh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pe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legal tradition and meaning of the Constitution more profoundly than any other single fig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d as Chief Justice for 34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John_Marshall"/>
          <p:cNvPicPr/>
          <p:nvPr/>
        </p:nvPicPr>
        <p:blipFill>
          <a:blip r:embed="rId1"/>
          <a:stretch/>
        </p:blipFill>
        <p:spPr>
          <a:xfrm>
            <a:off x="6380280" y="1219320"/>
            <a:ext cx="2449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arbury v Madison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hall’s first and one of his most important legac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icial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FC0700610626"/>
          <p:cNvPicPr/>
          <p:nvPr/>
        </p:nvPicPr>
        <p:blipFill>
          <a:blip r:embed="rId1"/>
          <a:stretch/>
        </p:blipFill>
        <p:spPr>
          <a:xfrm>
            <a:off x="5410080" y="2514600"/>
            <a:ext cx="257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Jefferson Turns Warrior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00400" y="2133720"/>
            <a:ext cx="548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 attitude and actions toward army and nav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African Barbary Pi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es of Tripol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quito fl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barbary"/>
          <p:cNvPicPr/>
          <p:nvPr/>
        </p:nvPicPr>
        <p:blipFill>
          <a:blip r:embed="rId1"/>
          <a:stretch/>
        </p:blipFill>
        <p:spPr>
          <a:xfrm>
            <a:off x="171360" y="1676520"/>
            <a:ext cx="27892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Louisiana Godsend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 had gotten Louisiana from France after the F&amp;I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0  Spain ceded Louisiana Territory  to F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es France want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02 Spain withdrew the right of depos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ers’ reaction?  Jefferson’s op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erson send envoys.  Their instru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oleon offers to sell the entire territory for 15 Mill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oys jump at the offer without waiting for instru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Louisiana Purchase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5" descr="lpurch1"/>
          <p:cNvPicPr/>
          <p:nvPr/>
        </p:nvPicPr>
        <p:blipFill>
          <a:blip r:embed="rId1"/>
          <a:stretch/>
        </p:blipFill>
        <p:spPr>
          <a:xfrm>
            <a:off x="685800" y="1143000"/>
            <a:ext cx="7848720" cy="52149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1371600" y="58672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ae8"/>
                </a:solidFill>
                <a:latin typeface="Garamond"/>
              </a:rPr>
              <a:t>Terr. West of Mississippi in Miss. and Mo. River water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Louisiana In The Long View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ost important events in US Histor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d the size of country and gave us very fertile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the momentum of westward expans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d to the feeling that country was unlimit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ed the seeds of manifest Destiny—idea that America destined to control entire continen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xploring the Louisiana Purchase and the West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838080" y="1298520"/>
            <a:ext cx="7405920" cy="555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amilton-Burr Duel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t attitude toward Louisiana Purch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ron Bur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lot for the secession of New Eng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ilton-Burr duel in 1804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 for D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 killed Hamilton during the duel, and Burr further discre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burrduel"/>
          <p:cNvPicPr/>
          <p:nvPr/>
        </p:nvPicPr>
        <p:blipFill>
          <a:blip r:embed="rId1"/>
          <a:stretch/>
        </p:blipFill>
        <p:spPr>
          <a:xfrm>
            <a:off x="5987880" y="1523880"/>
            <a:ext cx="2857680" cy="2190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Duel18a"/>
          <p:cNvPicPr/>
          <p:nvPr/>
        </p:nvPicPr>
        <p:blipFill>
          <a:blip r:embed="rId2"/>
          <a:stretch/>
        </p:blipFill>
        <p:spPr>
          <a:xfrm>
            <a:off x="5486400" y="3962520"/>
            <a:ext cx="33526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America:  A Nutcrackered Neutr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efferson reelected in 1804 in a landslide. (162-14)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his second term forced to deal with the mess in Europe and to try to find a way to stay neutra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poleon reignites war in Europe. Brits oppo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y 1806 France supreme on Land, Brits supreme on seas.  Stalem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 first, US shippers get rich trading to both sid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America:  A Nutcrackered Neutra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Orders in Council in 18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’s respo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US see this as violation of its righ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and impresses over 6000 US sailors between 1608-11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England refuse to sto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apeake Affair -18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outraged and ready for war, but Jefferson refuses to pull the trigger.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Jeffersonian Revolution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943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ll over 6 feet t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a good public speak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f the greatest writers among U.S. Pr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naissance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dibly well-read in science and philoso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. Congres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mblyman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. of Virginia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or of Dec. of Independenc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. to Franc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. of Stat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ce P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jefferson"/>
          <p:cNvPicPr/>
          <p:nvPr/>
        </p:nvPicPr>
        <p:blipFill>
          <a:blip r:embed="rId1"/>
          <a:stretch/>
        </p:blipFill>
        <p:spPr>
          <a:xfrm>
            <a:off x="6477120" y="1905120"/>
            <a:ext cx="2157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Jefferson’s Backfiring Embargo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Honor required US to do some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 and cons of US op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argo Act (18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d this would quickly bring England and France a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mbargo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eople HATE it.  Why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ngland Federalist particularly m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hey argue?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quen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times more costly that war would have be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imately did help New England fact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ograbme"/>
          <p:cNvPicPr/>
          <p:nvPr/>
        </p:nvPicPr>
        <p:blipFill>
          <a:blip r:embed="rId1"/>
          <a:stretch/>
        </p:blipFill>
        <p:spPr>
          <a:xfrm>
            <a:off x="1066680" y="1359000"/>
            <a:ext cx="68580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Non-Intercourse Ac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ch 180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just before Jefferson leaves office, Congress repealed the embargo and substitute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Intercourse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IT requi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embargo fai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Intercourse Act did hurt England, and they repealed Orders in Council, but too late to avoid War of 18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James Madison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80920" y="1295280"/>
            <a:ext cx="5334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me 4th President in 18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4, 100 lb., weak vo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distinguished care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. Congress, Congressman, Const. Convention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. of 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very successful as President.  Party broken by factions and he was not a strong leader of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y Madison, first true First Lady who acted as social host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james_madison"/>
          <p:cNvPicPr/>
          <p:nvPr/>
        </p:nvPicPr>
        <p:blipFill>
          <a:blip r:embed="rId1"/>
          <a:stretch/>
        </p:blipFill>
        <p:spPr>
          <a:xfrm>
            <a:off x="304920" y="1600200"/>
            <a:ext cx="3144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adison: Dupe Of Napoleon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on’s Bill No.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t was pas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t said about tra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 tricks Madison into believing France would comply.  Sets US on course antagonistic to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r Hawk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 Hawks pushing for War against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ry Clay; John C. Calh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295280" y="457200"/>
            <a:ext cx="655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heshireBroa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CheshireBroad"/>
              </a:rPr>
              <a:t>War Hawks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600200" y="548640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Henry Clay [KY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John C. Calhoun [SC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5" descr="Henry Clay"/>
          <p:cNvPicPr/>
          <p:nvPr/>
        </p:nvPicPr>
        <p:blipFill>
          <a:blip r:embed="rId1"/>
          <a:stretch/>
        </p:blipFill>
        <p:spPr>
          <a:xfrm>
            <a:off x="1523880" y="1523880"/>
            <a:ext cx="2819520" cy="3657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78" name="Picture 6" descr="John C Calhoun"/>
          <p:cNvPicPr/>
          <p:nvPr/>
        </p:nvPicPr>
        <p:blipFill>
          <a:blip r:embed="rId2"/>
          <a:stretch/>
        </p:blipFill>
        <p:spPr>
          <a:xfrm>
            <a:off x="5562720" y="2438280"/>
            <a:ext cx="3247920" cy="38102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attling Indians in the Wes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Hawks believed Brits stirring up Indians in the W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ntucky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umseh and the Profit.  Shawnee Br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gan to build a tribal confederacy east of the Mississippi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ked Settlers in “their”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tecumseh"/>
          <p:cNvPicPr/>
          <p:nvPr/>
        </p:nvPicPr>
        <p:blipFill>
          <a:blip r:embed="rId1"/>
          <a:stretch/>
        </p:blipFill>
        <p:spPr>
          <a:xfrm>
            <a:off x="6095880" y="1905120"/>
            <a:ext cx="28450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ndian Battle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 1811 General William Henry Harrison (9th president) attacked Tecumseh’s headquarters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pecano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14 Andrew Jackson (7th Presiden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shed Creek Indians at Battle of Horseshoe Bend (Alaba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7" descr="32_00018"/>
          <p:cNvPicPr/>
          <p:nvPr/>
        </p:nvPicPr>
        <p:blipFill>
          <a:blip r:embed="rId1"/>
          <a:stretch/>
        </p:blipFill>
        <p:spPr>
          <a:xfrm>
            <a:off x="6095880" y="4114800"/>
            <a:ext cx="2075040" cy="2514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00000095"/>
          <p:cNvPicPr/>
          <p:nvPr/>
        </p:nvPicPr>
        <p:blipFill>
          <a:blip r:embed="rId2"/>
          <a:stretch/>
        </p:blipFill>
        <p:spPr>
          <a:xfrm>
            <a:off x="6095880" y="1219320"/>
            <a:ext cx="2095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ar of 1812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1812 militant War Hawks get a declaration of war from Congr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narrow vote, signaling a dangerous division in the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ts strongly op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b it “Mr. Madison’s Wa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B000742G0G"/>
          <p:cNvPicPr/>
          <p:nvPr/>
        </p:nvPicPr>
        <p:blipFill>
          <a:blip r:embed="rId1"/>
          <a:stretch/>
        </p:blipFill>
        <p:spPr>
          <a:xfrm>
            <a:off x="304920" y="1600200"/>
            <a:ext cx="320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lection of 1800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ms v. Jefferson again.  Clos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ron Burr runs as Dem.-Rep. Vice P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 wins this time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3 to 6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o Federalists lose suppor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ion is very pers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York is the key swing state.  NY delivered to Jefferson by Aar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r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rough his connections in the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 strongest in west and south where universal white male suffrage (no property requirements) had taken h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167652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lection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of 1800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6330960" cy="555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lection of 1800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812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ron Burr probl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e Presidential election and electoral college before the 1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 throws election into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’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milton does to help Jeffer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he does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Aaron_burr"/>
          <p:cNvPicPr/>
          <p:nvPr/>
        </p:nvPicPr>
        <p:blipFill>
          <a:blip r:embed="rId1"/>
          <a:stretch/>
        </p:blipFill>
        <p:spPr>
          <a:xfrm>
            <a:off x="228600" y="2057400"/>
            <a:ext cx="316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volution of 1800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00 arguably the most significant in US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Federalist Finale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ms was the last Federalist presid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t as halfway house between European past and American pres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can’t Federalists appeal to more voters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ed a party for another 20 years, but can’t win the presidenc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Large%20Triceratops"/>
          <p:cNvPicPr/>
          <p:nvPr/>
        </p:nvPicPr>
        <p:blipFill>
          <a:blip r:embed="rId1"/>
          <a:stretch/>
        </p:blipFill>
        <p:spPr>
          <a:xfrm>
            <a:off x="304920" y="1981080"/>
            <a:ext cx="2743200" cy="18925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380880" y="45720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Garamond"/>
              </a:rPr>
              <a:t>Federalists, like the dinosaurs, couldn’t adapt and so became ex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Jefferson’s Political Principl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s of inaug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’s political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ed the idea of a political elit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bone of democracy was the free, independent far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suffrage without regard to property ownershi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government—government governs best when it governs le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ct construction of the Constit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yoeman"/>
          <p:cNvPicPr/>
          <p:nvPr/>
        </p:nvPicPr>
        <p:blipFill>
          <a:blip r:embed="rId1"/>
          <a:stretch/>
        </p:blipFill>
        <p:spPr>
          <a:xfrm>
            <a:off x="6095880" y="1828800"/>
            <a:ext cx="27147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Jeffersonian Restraint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’s first priority was to undue abuses by the Federalists.  What does h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doned those convicted under the Alien and Sedition A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ed a new naturalization law (1802) that reduced residence requirement back to five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led the excise tax—cost US 1 Mill. per year in lost reven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the national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he do to the core of Hamilton’s financial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01:05:46Z</dcterms:created>
  <dc:creator>John Steere</dc:creator>
  <dc:description/>
  <dc:language>en-US</dc:language>
  <cp:lastModifiedBy>Jenkins, Mark</cp:lastModifiedBy>
  <dcterms:modified xsi:type="dcterms:W3CDTF">2012-03-05T17:21:11Z</dcterms:modified>
  <cp:revision>14</cp:revision>
  <dc:subject/>
  <dc:title>Slide 1</dc:title>
</cp:coreProperties>
</file>